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1E75-62C4-4E49-B472-A22DFC7F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B0E7-9DD9-49B4-A82B-6100A23E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94FA-7B95-4BA4-ADF6-79416B90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233D-5706-4747-ADB4-D47F5717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071-5003-439E-ABA8-0484AD1A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72D2-E17E-41E6-94A6-461E2326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4D66-DE31-48DC-B06C-BBDE7F7B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EFD6-62A5-42F3-94DE-F7C365F6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CAE2-1CA5-4998-AA3A-7B1076B5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749A-9F19-4418-AD5C-73D3F4F0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586D-E046-41CF-8F30-EDA60B4D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224-777C-4EAD-BD8F-85E06070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0388-10F0-40A6-8FDE-8BC4F03EF8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7. Unifitseerim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tõestame lauset kujul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kasutame sekventside paremreeglit või fokuseerimist, siis peame kasutama termi t ja tõestama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vantori väärtuste hulk võib olla lõpmatu (nt. naturaalarvude hulk), seega ei saa me valida lihtsalt kõiki võimalusi läbi katsetad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ubstitutsioonid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g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, 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g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, 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ldisem kui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est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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, 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üldisem kui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üldisem kui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is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üldisem kui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üldisem kui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üldisem kui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siis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uutujat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mbernimetamise täpsuseni samad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siooni nimetatakse kahe term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ikaatorik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d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itseeritava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i neile leidub unifikaator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sioon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õige üldisem unifikaator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ost general unifier, mgu), ku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fikaator ning ükski teine unifikaator pole sellest üldis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kaks term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unifitseeritavad, siis leidub nende jaoks muutujat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mbernimetamise täpsuseni üheselt määratud kõige üldisem unifika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ermid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, 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 on unifitseeritavad substitutsiooni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sioon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, 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unifitseerib nad samuti, ag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ene substitutsioon on üldis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d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e unifitseeritavad, sest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uleks asendada ni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ui k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a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he termi unifitseerimiseks on mitmeid algoritme. Robinsoni originaalalgoritm kasutas ebakõlapaar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sagreement pair) mõis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he term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bakõlapaarik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paar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astavalt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lised alamtermid, et termidest puudena mõeldes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ured märgendatu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inevate sümbolitega, aga teed vastavalt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urtest kuni nendeni on märgendatu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ade sümbolite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ermide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, j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, 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) j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, k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) juures moodustava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mtermid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, 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bakõlapaar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kaks termi erinevad, peab nende vahel olema üks või enam ebakõlapaari. Ku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sioon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fitseerib termid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eab ta unifitseerima iga nen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bakõlapaar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insoni unifitseerimisalgorit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u </a:t>
            </a:r>
            <a:r>
              <a:rPr b="0" i="1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[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n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eeme järgm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me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ngi ebakõlapaar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kumbki termidest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le muutuja, siis ebaõnnestu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u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e termidest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mis on muutuja (kui mõlemad on muutujad, siis ükskõik kumb) ja olgu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ine nendest,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ineb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, siis ebaõnnestu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õige üldisem unifika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in aitab meid tehnika, mille nimeks on unifitseerimine. Selle põhi-idee on üsna lihtne: me lükkame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iku hilisemaks ja võtame selle asemel kasutusele uue muutuja (mida sageli nimetatakse metamuutujujaks või loogiliseks muutujaks) ja jätkame tõestuskäigu alt-üles konstrueerimist. Kui jõuame algsekventsideni, siis  kontrollime, kas leidub sellist muutujate substitutsiooni, et hüpotees sobiks järelduseg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jah, siis rakendame seda meie osalisele tuletuskäigule ja jätkame teiste alamülesannete lahendamis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list muutujate substitutsiooni otsimist, mille korral kaks lauset või termi sobituvad, nimetatakse unifitseerimisek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em, kas unifitseeriv substitutsioon leidub, on lahenduv, ja me saame seda efektiivselt lineaarse ajaga leida. Veelgi enam, see on leitav üheselt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siooniks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metatakse termide omistust muutujatele. Laiendame mõistet termide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uutuj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indiviidkons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funktsioonik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, si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sioonide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kompositsiooni all mõeldakse sellist substitutsiooni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a muutu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r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htne on näha, et iga term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ral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sioonide kompositsioon on assotsiatiivne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siooni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gihulgaks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metatakse nende muutujate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ulka, mille kor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.t see on nende muutujate hulk, mille substitutsioon millegi erinevaga asend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kahel substitutsioonil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lõplik tugi, siis on lõplik tugi ka nen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ositsioon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substitutsioonil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lõplik tugi, olgu selleks {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usjuures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i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ähistatakse seda sageli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sussubstitutsiooni tähisek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[] (tugi on tühi hulk, iga muutuja asendatakse iseendag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 si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need muutujad nimekirja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is nimekirja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ne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u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, g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, 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j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, z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 si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g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, g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, 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, z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tleme, et substitutsioon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substitutsioonist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ldise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i leidub selline substitutsioon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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1:21:21Z</dcterms:created>
  <dc:creator>Tiina Zingel</dc:creator>
  <dc:description/>
  <dc:language>en-US</dc:language>
  <cp:lastModifiedBy>Tiina Zingel</cp:lastModifiedBy>
  <dcterms:modified xsi:type="dcterms:W3CDTF">2006-03-31T11:57:51Z</dcterms:modified>
  <cp:revision>2</cp:revision>
  <dc:subject/>
  <dc:title>7. Unifitseerimine</dc:title>
</cp:coreProperties>
</file>